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B9B5-499E-46A1-944B-717BB1FE7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chool’s inventory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procedure separate Perkins-purchased items from oth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Perkins-purchased items tracked?  Are they tag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equipment located where it is suppos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cedure is used to dispose of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 needs to facilitate disposition of any equipment funded with Perk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size, scope and quality requirements of Perkins IV, I recommend the following.  We all need to have the same answer if someone asks what they are.  This is the ideal that programs should work towards.  Obviously, not all programs will have all of the quality items but it should be the goal to work towards the majority of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nd Scope</a:t>
            </a:r>
            <a:r>
              <a:rPr b="0" lang="en-US" sz="1200" spc="-1" strike="noStrike">
                <a:solidFill>
                  <a:srgbClr val="000000"/>
                </a:solidFill>
                <a:latin typeface="Arial"/>
              </a:rPr>
              <a:t>:  Program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redits offer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courses are in the programs'  sequence of cour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a:t>
            </a:r>
            <a:r>
              <a:rPr b="0" lang="en-US" sz="1200" spc="-1" strike="noStrike">
                <a:solidFill>
                  <a:srgbClr val="000000"/>
                </a:solidFill>
                <a:latin typeface="Arial"/>
              </a:rPr>
              <a:t>:  PIP &amp; course syllabi submitted to OCT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standards aligned with career clusters core standar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based learning included in cours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syllabi with integrated academic and technical knowledge and skill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ased experience (job shadow, internship, etc.)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use of  technolog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ssessme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recognized certificate, license, credential, if availabl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to postsecondary alignment, including dual credit/enrollment and/or articula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to-date equipm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0392B-797F-41A1-A90C-0BBB7E0E7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897AB-9D4A-4D8F-B67F-5B11657D8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E9AFD-204D-4040-B4A1-CEAC31D47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7CBF1-E247-46E7-8AB1-F3C799F30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BED44-E53A-436F-B35C-C3A7F015E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9C063-E0EA-4922-90D5-8206550B7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31865-8354-4012-8121-3D677FAEA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06DFE-10E0-497B-81A8-5C471BEAA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DD4DA-F9A2-4813-AFED-CCF5EEE6F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B1DDC-4EA8-4A1C-9910-E4E3EAE93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0B00F-D16A-4C79-986A-12595F44A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9EDCE-FBE2-49CB-839C-C4DD5CF71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149BF-0BCD-4D93-B0D5-B804CF7E4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327C2-72CF-40F0-BE66-57885771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B129C-C4A7-44AD-9CFF-51A6D4234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469EF-C9C7-4162-B302-B88091801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04B3C-FB3F-4D8E-9004-DB5C8DCE4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C7367-F609-4C99-BCE1-55039E97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8E7C-80D1-4F9C-A9BD-463019439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45F6-D1A1-4531-AC10-3BD7FEFD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77559-AB50-426E-9699-A92494561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BCEB-4820-46B9-BC32-896EB18E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E698D-A2F0-443C-9A66-4185E27C6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F9B72-9440-4A73-AC53-DD57F89FC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9FC2-5E41-46D7-B25F-9770DEB908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5FE3-265D-4DAF-8A47-DB157A52BB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437920"/>
            <a:ext cx="86868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Program Improvement Process </a:t>
            </a:r>
            <a:endParaRPr b="1" lang="en-US" sz="3000" spc="-1" strike="noStrike">
              <a:solidFill>
                <a:srgbClr val="330066"/>
              </a:solidFill>
              <a:latin typeface="Arial"/>
            </a:endParaRPr>
          </a:p>
        </p:txBody>
      </p:sp>
      <p:sp>
        <p:nvSpPr>
          <p:cNvPr id="15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
          <p:cNvSpPr/>
          <p:nvPr/>
        </p:nvSpPr>
        <p:spPr>
          <a:xfrm>
            <a:off x="3584880" y="32767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2009-2010</a:t>
            </a:r>
            <a:endParaRPr b="0" lang="en-US" sz="1800" spc="-1" strike="noStrike">
              <a:solidFill>
                <a:srgbClr val="000000"/>
              </a:solidFill>
              <a:latin typeface="Arial"/>
            </a:endParaRPr>
          </a:p>
        </p:txBody>
      </p:sp>
      <p:sp>
        <p:nvSpPr>
          <p:cNvPr id="158" name=""/>
          <p:cNvSpPr/>
          <p:nvPr/>
        </p:nvSpPr>
        <p:spPr>
          <a:xfrm>
            <a:off x="228600" y="6248520"/>
            <a:ext cx="59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Curriculum, Career &amp; Technical Education</a:t>
            </a:r>
            <a:endParaRPr b="0" lang="en-US" sz="1400" spc="-1" strike="noStrike">
              <a:solidFill>
                <a:srgbClr val="000000"/>
              </a:solidFill>
              <a:latin typeface="Arial"/>
            </a:endParaRPr>
          </a:p>
        </p:txBody>
      </p:sp>
      <p:graphicFrame>
        <p:nvGraphicFramePr>
          <p:cNvPr id="159" name=""/>
          <p:cNvGraphicFramePr/>
          <p:nvPr/>
        </p:nvGraphicFramePr>
        <p:xfrm>
          <a:off x="228600" y="5638680"/>
          <a:ext cx="2286000" cy="573120"/>
        </p:xfrm>
        <a:graphic>
          <a:graphicData uri="http://schemas.openxmlformats.org/presentationml/2006/ole">
            <p:oleObj r:id="rId1" spid="">
              <p:embed/>
              <p:pic>
                <p:nvPicPr>
                  <p:cNvPr id="160" name="" descr=""/>
                  <p:cNvPicPr/>
                  <p:nvPr/>
                </p:nvPicPr>
                <p:blipFill>
                  <a:blip r:embed="rId2"/>
                  <a:stretch/>
                </p:blipFill>
                <p:spPr>
                  <a:xfrm>
                    <a:off x="228600" y="5638680"/>
                    <a:ext cx="2286000" cy="573120"/>
                  </a:xfrm>
                  <a:prstGeom prst="rect">
                    <a:avLst/>
                  </a:prstGeom>
                  <a:ln w="0">
                    <a:noFill/>
                  </a:ln>
                </p:spPr>
              </p:pic>
            </p:oleObj>
          </a:graphicData>
        </a:graphic>
      </p:graphicFrame>
      <p:sp>
        <p:nvSpPr>
          <p:cNvPr id="4" name="PlaceHolder 3"/>
          <p:cNvSpPr>
            <a:spLocks noGrp="1"/>
          </p:cNvSpPr>
          <p:nvPr>
            <p:ph type="sldNum" idx="3"/>
          </p:nvPr>
        </p:nvSpPr>
        <p:spPr/>
        <p:txBody>
          <a:bodyPr/>
          <a:p>
            <a:fld id="{A6482DAF-5CA7-49CC-882A-4360201CF1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ata: Now What?</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should we do with the data?</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with advisory committe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 with administration</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with core content teach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 strategies for improvement</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program improvement goal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 budget to help achieve goal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recruiting strategi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rigor</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hink course offerings and content</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C7DBF22-EBC7-4A6D-9734-C0E3735981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roved Program Application</a:t>
            </a:r>
            <a:endParaRPr b="1" lang="en-US" sz="3900" spc="-1" strike="noStrike">
              <a:solidFill>
                <a:srgbClr val="330066"/>
              </a:solidFill>
              <a:latin typeface="Arial"/>
            </a:endParaRPr>
          </a:p>
        </p:txBody>
      </p:sp>
      <p:sp>
        <p:nvSpPr>
          <p:cNvPr id="203" name="PlaceHolder 2"/>
          <p:cNvSpPr>
            <a:spLocks noGrp="1"/>
          </p:cNvSpPr>
          <p:nvPr>
            <p:ph/>
          </p:nvPr>
        </p:nvSpPr>
        <p:spPr>
          <a:xfrm>
            <a:off x="456840" y="1904760"/>
            <a:ext cx="8458200" cy="45306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eer Cluster/Program of Study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utilize Career Cluster course codes/titl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ademic courses on application means you are implementing concepts &amp; will report students for academic classes for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e in Spr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may have more than one Cluster Program</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389078D-A653-4B01-8011-EF0E0EE9EF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entory Controls</a:t>
            </a:r>
            <a:endParaRPr b="1" lang="en-US" sz="3900" spc="-1" strike="noStrike">
              <a:solidFill>
                <a:srgbClr val="330066"/>
              </a:solidFill>
              <a:latin typeface="Arial"/>
            </a:endParaRPr>
          </a:p>
        </p:txBody>
      </p:sp>
      <p:sp>
        <p:nvSpPr>
          <p:cNvPr id="20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urate equipment records maintained by the local district or consortiu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quate internal controls to account for location and custody of equi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ular physical inventory of equi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pment purchased with Perkins funds clearly marked in recipients’ inventor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kins-purchased equipment marked with a sticker, tag, or other unique identifi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TE no longer maintains equipment inventor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D4434D9-7FC2-47C5-9B51-5C02766B2A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fessional Development</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DMyLife trainings – advanced and beginn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ddle School EDventu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ndards Crosswal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ing UBD uni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ject Based Learning</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DDE38FB-66AE-4C3A-B6FA-F821966F4542}"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09-2010 Focus</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eer Clusters</a:t>
            </a:r>
            <a:endParaRPr b="0" lang="en-US" sz="25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way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of Study</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of your current content to core standard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alignment to core content standards</a:t>
            </a:r>
            <a:endParaRPr b="0" lang="en-US" sz="22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necting program improvement to:</a:t>
            </a:r>
            <a:endParaRPr b="0" lang="en-US" sz="25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ocal program approval application and local five-year plan,</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kins Core Indicators of Performance (accountability data), </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kins budget requests, and </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gram monitoring (Program Improvement Process - PIP)</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4EE6C6C6-5813-4209-806F-4E8AF90BA09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nual Budget Requests</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your Perkins director for important information about budget approvals, amendments, and other general budgeting question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quests related to program improvement, student achievement, and accountability.</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s follow the same format as requests.  Contact your Cluster Specialist first then work with your consortium director to add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1C2B00-8131-499E-8C6F-7EC2BE6AA5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gram Visits</a:t>
            </a:r>
            <a:endParaRPr b="1" lang="en-US" sz="3500" spc="-1" strike="noStrike">
              <a:solidFill>
                <a:srgbClr val="330066"/>
              </a:solidFill>
              <a:latin typeface="Arial"/>
            </a:endParaRPr>
          </a:p>
        </p:txBody>
      </p:sp>
      <p:sp>
        <p:nvSpPr>
          <p:cNvPr id="166" name="PlaceHolder 2"/>
          <p:cNvSpPr>
            <a:spLocks noGrp="1"/>
          </p:cNvSpPr>
          <p:nvPr>
            <p:ph/>
          </p:nvPr>
        </p:nvSpPr>
        <p:spPr>
          <a:xfrm>
            <a:off x="457200" y="2013120"/>
            <a:ext cx="8229600" cy="41176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Program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Teach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pients of state/federal fund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itation from local CTE progra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Accountability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887F134-4DB6-488F-AFA7-83A332B6AF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80520"/>
            <a:ext cx="838224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iteria for Determining On-site Reviews</a:t>
            </a:r>
            <a:endParaRPr b="1" lang="en-US" sz="3500" spc="-1" strike="noStrike">
              <a:solidFill>
                <a:srgbClr val="330066"/>
              </a:solidFill>
              <a:latin typeface="Arial"/>
            </a:endParaRPr>
          </a:p>
        </p:txBody>
      </p:sp>
      <p:sp>
        <p:nvSpPr>
          <p:cNvPr id="168" name="PlaceHolder 2"/>
          <p:cNvSpPr>
            <a:spLocks noGrp="1"/>
          </p:cNvSpPr>
          <p:nvPr>
            <p:ph/>
          </p:nvPr>
        </p:nvSpPr>
        <p:spPr>
          <a:xfrm>
            <a:off x="533520" y="2133720"/>
            <a:ext cx="8229600" cy="4114800"/>
          </a:xfrm>
          <a:prstGeom prst="rect">
            <a:avLst/>
          </a:prstGeom>
          <a:noFill/>
          <a:ln w="0">
            <a:noFill/>
          </a:ln>
        </p:spPr>
        <p:txBody>
          <a:bodyPr lIns="90000" rIns="90000" tIns="46800" bIns="46800" anchor="t">
            <a:normAutofit/>
          </a:bodyPr>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ze, scope and quality of program</a:t>
            </a:r>
            <a:endParaRPr b="0" lang="en-US" sz="3000" spc="-1" strike="noStrike">
              <a:solidFill>
                <a:srgbClr val="000000"/>
              </a:solidFill>
              <a:latin typeface="Arial"/>
            </a:endParaRPr>
          </a:p>
          <a:p>
            <a:pPr lvl="1" marL="1271520" indent="-53316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ty program indicators (Pages 6-8 of Instrument)</a:t>
            </a:r>
            <a:endParaRPr b="0" lang="en-US" sz="2600" spc="-1" strike="noStrike">
              <a:solidFill>
                <a:srgbClr val="000000"/>
              </a:solidFill>
              <a:latin typeface="Arial"/>
            </a:endParaRPr>
          </a:p>
          <a:p>
            <a:pPr lvl="1" marL="1271520" indent="-53316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of Study</a:t>
            </a:r>
            <a:endParaRPr b="0" lang="en-US" sz="2600" spc="-1" strike="noStrike">
              <a:solidFill>
                <a:srgbClr val="000000"/>
              </a:solidFill>
              <a:latin typeface="Arial"/>
            </a:endParaRPr>
          </a:p>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Results for Performance (Core Indicators)   </a:t>
            </a:r>
            <a:endParaRPr b="0" lang="en-US" sz="3000" spc="-1" strike="noStrike">
              <a:solidFill>
                <a:srgbClr val="000000"/>
              </a:solidFill>
              <a:latin typeface="Arial"/>
            </a:endParaRPr>
          </a:p>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used for program improvement </a:t>
            </a:r>
            <a:endParaRPr b="0" lang="en-US" sz="3000" spc="-1" strike="noStrike">
              <a:solidFill>
                <a:srgbClr val="000000"/>
              </a:solidFill>
              <a:latin typeface="Arial"/>
            </a:endParaRPr>
          </a:p>
          <a:p>
            <a:pPr lvl="1" marL="12715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B263AB5-668D-498C-8E36-FEA4D58CFC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80520"/>
            <a:ext cx="73915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gram Improvement Progress Report</a:t>
            </a:r>
            <a:endParaRPr b="1" lang="en-US" sz="3500" spc="-1" strike="noStrike">
              <a:solidFill>
                <a:srgbClr val="330066"/>
              </a:solidFill>
              <a:latin typeface="Arial"/>
            </a:endParaRPr>
          </a:p>
        </p:txBody>
      </p:sp>
      <p:sp>
        <p:nvSpPr>
          <p:cNvPr id="170" name="PlaceHolder 2"/>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ue December 1</a:t>
            </a:r>
            <a:r>
              <a:rPr b="0" lang="en-US" sz="2100" spc="-1" strike="noStrike" baseline="30000">
                <a:solidFill>
                  <a:srgbClr val="000000"/>
                </a:solidFill>
                <a:latin typeface="Arial"/>
              </a:rPr>
              <a:t>st</a:t>
            </a:r>
            <a:r>
              <a:rPr b="0" lang="en-US" sz="2100" spc="-1" strike="noStrike">
                <a:solidFill>
                  <a:srgbClr val="000000"/>
                </a:solidFill>
                <a:latin typeface="Arial"/>
              </a:rPr>
              <a:t>  </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er Data</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Update Goals</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s based on 7 key areas of Program Improvement</a:t>
            </a:r>
            <a:endParaRPr b="0" lang="en-US" sz="21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engaged</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orous coursework</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 working cooperatively</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of study</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 involved in career guidance</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ment enhances student learning</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istic program improvement plann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A0C74F6-B1C3-498B-AA06-46934BE757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all students were enter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ntrators – students with 2 credits in a program</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5 foundational credits count towards 2 unit statu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 to 1 unit of Capstone credit counts towards 2 unit statu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5 academic credit counts towards 2 unit statu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EF6605C-C3A4-40A8-85C2-B02308421C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533520" y="1295280"/>
            <a:ext cx="7772400" cy="8556840"/>
            <a:chOff x="533520" y="1295280"/>
            <a:chExt cx="7772400" cy="8556840"/>
          </a:xfrm>
        </p:grpSpPr>
        <p:sp>
          <p:nvSpPr>
            <p:cNvPr id="174" name=""/>
            <p:cNvSpPr/>
            <p:nvPr/>
          </p:nvSpPr>
          <p:spPr>
            <a:xfrm>
              <a:off x="1067400" y="1295280"/>
              <a:ext cx="6764040" cy="126828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ahoma"/>
                </a:rPr>
                <a:t>Approved Progra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Tahoma"/>
                </a:rPr>
                <a:t>Two Unit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1304640" y="3047760"/>
              <a:ext cx="617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46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33520" y="3766320"/>
              <a:ext cx="1542600" cy="75744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Foundational CTE</a:t>
              </a:r>
              <a:endParaRPr b="0" lang="en-US" sz="1500" spc="-1" strike="noStrike">
                <a:solidFill>
                  <a:srgbClr val="000000"/>
                </a:solidFill>
                <a:latin typeface="Arial"/>
              </a:endParaRPr>
            </a:p>
          </p:txBody>
        </p:sp>
        <p:sp>
          <p:nvSpPr>
            <p:cNvPr id="178" name=""/>
            <p:cNvSpPr/>
            <p:nvPr/>
          </p:nvSpPr>
          <p:spPr>
            <a:xfrm>
              <a:off x="5457960" y="3766320"/>
              <a:ext cx="13050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cademic</a:t>
              </a:r>
              <a:endParaRPr b="0" lang="en-US" sz="1800" spc="-1" strike="noStrike">
                <a:solidFill>
                  <a:srgbClr val="000000"/>
                </a:solidFill>
                <a:latin typeface="Arial"/>
              </a:endParaRPr>
            </a:p>
          </p:txBody>
        </p:sp>
        <p:sp>
          <p:nvSpPr>
            <p:cNvPr id="179" name=""/>
            <p:cNvSpPr/>
            <p:nvPr/>
          </p:nvSpPr>
          <p:spPr>
            <a:xfrm>
              <a:off x="6882120" y="3766320"/>
              <a:ext cx="13644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apstone</a:t>
              </a:r>
              <a:endParaRPr b="0" lang="en-US" sz="1800" spc="-1" strike="noStrike">
                <a:solidFill>
                  <a:srgbClr val="000000"/>
                </a:solidFill>
                <a:latin typeface="Arial"/>
              </a:endParaRPr>
            </a:p>
          </p:txBody>
        </p:sp>
        <p:sp>
          <p:nvSpPr>
            <p:cNvPr id="180" name=""/>
            <p:cNvSpPr/>
            <p:nvPr/>
          </p:nvSpPr>
          <p:spPr>
            <a:xfrm>
              <a:off x="3707280" y="3774600"/>
              <a:ext cx="1648440" cy="57636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Career Cluster Pathway</a:t>
              </a:r>
              <a:endParaRPr b="0" lang="en-US" sz="1500" spc="-1" strike="noStrike">
                <a:solidFill>
                  <a:srgbClr val="000000"/>
                </a:solidFill>
                <a:latin typeface="Arial"/>
              </a:endParaRPr>
            </a:p>
          </p:txBody>
        </p:sp>
        <p:sp>
          <p:nvSpPr>
            <p:cNvPr id="181" name=""/>
            <p:cNvSpPr/>
            <p:nvPr/>
          </p:nvSpPr>
          <p:spPr>
            <a:xfrm>
              <a:off x="2253960" y="3766320"/>
              <a:ext cx="1305000" cy="58464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Career Cluster</a:t>
              </a:r>
              <a:endParaRPr b="0" lang="en-US" sz="1600" spc="-1" strike="noStrike">
                <a:solidFill>
                  <a:srgbClr val="000000"/>
                </a:solidFill>
                <a:latin typeface="Arial"/>
              </a:endParaRPr>
            </a:p>
          </p:txBody>
        </p:sp>
        <p:sp>
          <p:nvSpPr>
            <p:cNvPr id="182" name=""/>
            <p:cNvSpPr/>
            <p:nvPr/>
          </p:nvSpPr>
          <p:spPr>
            <a:xfrm>
              <a:off x="29660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49320" y="3025080"/>
              <a:ext cx="0" cy="74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512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7540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22440" y="4793040"/>
              <a:ext cx="13644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 Credits</a:t>
              </a:r>
              <a:endParaRPr b="0" lang="en-US" sz="1800" spc="-1" strike="noStrike">
                <a:solidFill>
                  <a:srgbClr val="000000"/>
                </a:solidFill>
                <a:latin typeface="Arial"/>
              </a:endParaRPr>
            </a:p>
          </p:txBody>
        </p:sp>
        <p:sp>
          <p:nvSpPr>
            <p:cNvPr id="187" name=""/>
            <p:cNvSpPr/>
            <p:nvPr/>
          </p:nvSpPr>
          <p:spPr>
            <a:xfrm flipH="1">
              <a:off x="1304640" y="4524120"/>
              <a:ext cx="5760" cy="26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28800" y="4783680"/>
              <a:ext cx="2135880" cy="31680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1 – 2+ Credits</a:t>
              </a:r>
              <a:endParaRPr b="0" lang="en-US" sz="1800" spc="-1" strike="noStrike">
                <a:solidFill>
                  <a:srgbClr val="000000"/>
                </a:solidFill>
                <a:latin typeface="Arial"/>
              </a:endParaRPr>
            </a:p>
          </p:txBody>
        </p:sp>
        <p:sp>
          <p:nvSpPr>
            <p:cNvPr id="189" name=""/>
            <p:cNvSpPr/>
            <p:nvPr/>
          </p:nvSpPr>
          <p:spPr>
            <a:xfrm>
              <a:off x="5326560" y="4793040"/>
              <a:ext cx="131796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 Credits</a:t>
              </a:r>
              <a:endParaRPr b="0" lang="en-US" sz="1800" spc="-1" strike="noStrike">
                <a:solidFill>
                  <a:srgbClr val="000000"/>
                </a:solidFill>
                <a:latin typeface="Arial"/>
              </a:endParaRPr>
            </a:p>
          </p:txBody>
        </p:sp>
        <p:sp>
          <p:nvSpPr>
            <p:cNvPr id="190" name=""/>
            <p:cNvSpPr/>
            <p:nvPr/>
          </p:nvSpPr>
          <p:spPr>
            <a:xfrm>
              <a:off x="6051240" y="407448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49320" y="4351320"/>
              <a:ext cx="0" cy="43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188880" y="4351320"/>
              <a:ext cx="0" cy="43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763320" y="4793040"/>
              <a:ext cx="15426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5 - 1 Credit</a:t>
              </a:r>
              <a:endParaRPr b="0" lang="en-US" sz="1600" spc="-1" strike="noStrike">
                <a:solidFill>
                  <a:srgbClr val="000000"/>
                </a:solidFill>
                <a:latin typeface="Arial"/>
              </a:endParaRPr>
            </a:p>
          </p:txBody>
        </p:sp>
        <p:sp>
          <p:nvSpPr>
            <p:cNvPr id="194" name=""/>
            <p:cNvSpPr/>
            <p:nvPr/>
          </p:nvSpPr>
          <p:spPr>
            <a:xfrm>
              <a:off x="7481520" y="407448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2760" y="5331600"/>
              <a:ext cx="1554480" cy="28800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62760" y="5850360"/>
              <a:ext cx="7513560" cy="4001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Arial"/>
              </a:endParaRPr>
            </a:p>
          </p:txBody>
        </p:sp>
        <p:sp>
          <p:nvSpPr>
            <p:cNvPr id="197" name=""/>
            <p:cNvSpPr/>
            <p:nvPr/>
          </p:nvSpPr>
          <p:spPr>
            <a:xfrm>
              <a:off x="4549320" y="2563560"/>
              <a:ext cx="0" cy="46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1960A39-F57E-459D-A62B-5AB2F18FB7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 http://doe.sd.gov/octe/data/</a:t>
            </a:r>
            <a:endParaRPr b="1" lang="en-US" sz="3900" spc="-1" strike="noStrike">
              <a:solidFill>
                <a:srgbClr val="330066"/>
              </a:solidFill>
              <a:latin typeface="Arial"/>
            </a:endParaRPr>
          </a:p>
        </p:txBody>
      </p:sp>
      <p:graphicFrame>
        <p:nvGraphicFramePr>
          <p:cNvPr id="199" name=""/>
          <p:cNvGraphicFramePr/>
          <p:nvPr/>
        </p:nvGraphicFramePr>
        <p:xfrm>
          <a:off x="380880" y="1617840"/>
          <a:ext cx="8533080" cy="4762440"/>
        </p:xfrm>
        <a:graphic>
          <a:graphicData uri="http://schemas.openxmlformats.org/drawingml/2006/table">
            <a:tbl>
              <a:tblPr/>
              <a:tblGrid>
                <a:gridCol w="4267440"/>
                <a:gridCol w="2133360"/>
                <a:gridCol w="2132280"/>
              </a:tblGrid>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untability Measur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otiated Level of Performance</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man Service Results</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6%</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6%</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cal Skil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4.4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8%</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8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ion &amp; Graduat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Availab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men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2.3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trad Participat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14%</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trad Complet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1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3%</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2261770-C2FD-47FE-999E-67F5571B5A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8:06Z</dcterms:created>
  <dc:creator>depr14527</dc:creator>
  <dc:description/>
  <dc:language>en-US</dc:language>
  <cp:lastModifiedBy>depr14681</cp:lastModifiedBy>
  <dcterms:modified xsi:type="dcterms:W3CDTF">2009-08-01T22:51:49Z</dcterms:modified>
  <cp:revision>132</cp:revision>
  <dc:subject/>
  <dc:title>Slide 1</dc:title>
</cp:coreProperties>
</file>